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AB93-34AB-47AE-9908-593C360F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6FCE-232D-4F3C-A770-C06CFD94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BB9-B4B7-40ED-B9E7-BD5CA7EF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7683-2B83-45AD-8D11-E1420398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246-B4BC-43FC-B4BC-2F1C3CF7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21B-7812-47AE-BAA0-E379007D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D6AB-E5DD-4FF4-A2E3-3D6A57FE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E7AA-AA5D-4273-A694-0D9D0B4C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18B-CC67-4ABD-8969-083922FC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9E0-AFA0-4D5D-B3B1-D6A19332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9097-1962-4313-B5A8-A21E250F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E1B-8BBF-462B-BE0D-E2860560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B737-37D9-40E3-8515-EF44077DDC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2880" y="2819520"/>
            <a:ext cx="724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impson’s Parado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391160" cy="4495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99480" y="608040"/>
            <a:ext cx="39542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9799"/>
                </a:solidFill>
                <a:latin typeface="Times New Roman"/>
              </a:rPr>
              <a:t>Simpson’s Parado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609480"/>
            <a:ext cx="1307880" cy="609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400800" y="609480"/>
            <a:ext cx="22096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2003" b="7610"/>
          <a:stretch/>
        </p:blipFill>
        <p:spPr>
          <a:xfrm>
            <a:off x="1371600" y="1209600"/>
            <a:ext cx="64008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181" t="1552" r="3534" b="10264"/>
          <a:stretch/>
        </p:blipFill>
        <p:spPr>
          <a:xfrm>
            <a:off x="914400" y="533520"/>
            <a:ext cx="7467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2353" t="1552" r="1181" b="18213"/>
          <a:stretch/>
        </p:blipFill>
        <p:spPr>
          <a:xfrm>
            <a:off x="838080" y="1143000"/>
            <a:ext cx="74678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219" t="1615" r="1219" b="7610"/>
          <a:stretch/>
        </p:blipFill>
        <p:spPr>
          <a:xfrm>
            <a:off x="914400" y="1066680"/>
            <a:ext cx="7315200" cy="4724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28240" y="5851440"/>
            <a:ext cx="71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oes home at the end of the day without buying a h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105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78120" y="471600"/>
            <a:ext cx="57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next day just as the store  ope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410" t="1602" r="1210" b="7610"/>
          <a:stretch/>
        </p:blipFill>
        <p:spPr>
          <a:xfrm>
            <a:off x="685800" y="533520"/>
            <a:ext cx="78487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7T14:43:20Z</dcterms:modified>
  <cp:revision>219</cp:revision>
  <dc:subject/>
  <dc:title>Slide 1</dc:title>
</cp:coreProperties>
</file>